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9D40-2033-427D-B93A-B3CD2C47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8B31-D90A-48E0-AE57-1A91524E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1C77-60BB-4B07-81D6-AEE3654D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5430-1FE2-40F4-BDAA-7730E635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9F41-F2AF-461E-91E6-5E1896E8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48A1-63D0-4B21-BA71-522580F2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A5FB-D504-4D3A-ABDC-9E8B03C8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7483-89CC-46ED-89B3-6B5EEE42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5955-92AB-41DA-87B9-48BA6BC8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1075-5313-481B-ACA2-8F25C7E7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DB14-0FC8-4C75-AA87-EF2B0043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E8C8-9413-48E3-BA89-59A54834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F19E-38BD-4B91-B3C0-20B4D181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C346-0CED-497C-88C4-60437F74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6AE9-2188-4189-A030-A8FACE48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6813-4C76-4E39-8884-244FB6E7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A14A-5137-459F-A93B-08479CAB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85503-80C5-4C9B-8C6E-44FC76DB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75502-248B-4B92-A1D8-49D309EE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781D6-5DEB-4B20-BFCD-044B7350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542C5-39F6-4765-ADE4-474540E6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1BA6C-EB38-48C0-BB37-12D2546A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D0E4-34A5-4066-B35E-7E1498AA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AE79B-C38E-4AC6-8673-C752A873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ED8EC-B238-46BE-8032-4C865A00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3A97F-9935-4A17-9F19-32A1F8CD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81BDF-02F0-436C-9856-DC2B433A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08CA1-8795-4E04-AF03-4C0E3A19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9C6AA-C9C3-4243-990E-E91378AA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61E03-B61D-428F-951B-B658F872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63B06-D2D6-4ABB-8862-EF71CA3A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2E4D2-CFF0-494D-BD4E-49849F7F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C188C-3799-4B92-9A2C-FFB9D315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FD0-0982-4B77-B4E4-559ECB3A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A0E0D-923F-4A87-A405-F68FCF97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2821D-1F21-4AF9-B005-A0D272D3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F2BFA-B531-466F-ACB7-A258CD3A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AFA4A-23E3-4113-BB3F-E832B78A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2FA4B-ACDF-4613-AF4F-2DA74B20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CB483-5BA6-4585-B93F-428721DF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FA8D2-F290-47B7-B071-9EFEEF16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7EB6C-C4AB-4401-828A-9E035B39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6E046-19AE-4BC9-9AA2-FC5B7419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E0FC3-BCF4-4026-9263-DE45A7E4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379-9195-4348-A58E-F5C992F0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1E6A5-3D33-42B1-B95D-E2E4831F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53A90-AF31-4E49-B86F-7E9B7825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1C735-0984-4E4E-B478-602E928A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7F91D-86DB-44EA-B93B-5D1D85C9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8EB4F-C8D0-40C9-9874-A03BBA80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483BD-C70E-4982-9A2D-5097D775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22441-16FD-467A-9D6D-C6B9E8C9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C4E19-746A-4BC1-AB54-153FFBCC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822D0-4B68-466F-9408-45DB8049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3339A-F98D-40A0-BE14-58A5C77C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558B-AE35-44C4-9398-A337EB3E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097E9-4C8B-462B-BCE8-658F8FCD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6D6B1-D662-4755-8746-2707BF6B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28649-D989-4987-A47C-797AA158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6B27E-E6F9-4C47-9770-53B86153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95CF1-0379-4E2D-BE38-5FA534CE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AD8A3-519C-4AAE-BAC7-663F5818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44699-FE70-406F-BFD4-17C32F0F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F7261-AD94-4743-8044-44358823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5FED4-C8C2-4EA7-82F9-C61FEB41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5BCC8-FDA6-4997-852E-DBCD82F3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84E7-EEE9-497A-A1B4-94265240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BABDB-6821-4177-A945-04F80373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FFFB5-B478-4AB7-BC6C-A7E666CD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ADFEF-F54D-4B91-BF67-550AFF51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28C2-A9BB-4831-B4B0-4F73CD52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A07-6763-4774-96AA-7DFA907A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hyperlink" Target="http://images.google.com/imgres?imgurl=http://arc.rcboe.org/www/arc_rcboe/site/hosting/IB/IB2007WorldSchool2Colourlarge.jpg&amp;imgrefurl=http://arc.rcboe.org/www/arc_rcboe/site/hosting/IB/index.htm&amp;usg=__pMwXyNhM6mI4srh1rcKogi4XBhY=&amp;h=481&amp;w=492&amp;sz=110&amp;hl=en&amp;start=1&amp;tbnid=zj-WJyn8raLdRM:&amp;tbnh=127&amp;tbnw=130&amp;prev=/images?q=IB&amp;gbv=2&amp;hl=en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images.google.com/imgres?imgurl=http://arc.rcboe.org/www/arc_rcboe/site/hosting/IB/IB2007WorldSchool2Colourlarge.jpg&amp;imgrefurl=http://arc.rcboe.org/www/arc_rcboe/site/hosting/IB/index.htm&amp;usg=__pMwXyNhM6mI4srh1rcKogi4XBhY=&amp;h=481&amp;w=492&amp;sz=110&amp;hl=en&amp;start=1&amp;tbnid=zj-WJyn8raLdRM:&amp;tbnh=127&amp;tbnw=130&amp;prev=/images?q=IB&amp;gbv=2&amp;hl=en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A10E-891B-4683-93B4-02AFB81621A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9" name="Picture 2" descr="http://tbn2.google.com/images?q=tbn:zj-WJyn8raLdRM:http://arc.rcboe.org/www/arc_rcboe/site/hosting/IB/IB2007WorldSchool2Colourlarg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0120" y="228600"/>
            <a:ext cx="1238040" cy="1209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0DDA-0DBF-4A34-B7EE-8283C1D8CFE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0" name="Picture 2" descr="http://tbn2.google.com/images?q=tbn:zj-WJyn8raLdRM:http://arc.rcboe.org/www/arc_rcboe/site/hosting/IB/IB2007WorldSchool2Colourlarg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772400" y="228600"/>
            <a:ext cx="1238400" cy="1209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3F60-49BF-4F99-8E10-F402DF1D5AB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1" name="Picture 2" descr="http://tbn2.google.com/images?q=tbn:zj-WJyn8raLdRM:http://arc.rcboe.org/www/arc_rcboe/site/hosting/IB/IB2007WorldSchool2Colourlarge.jpg"/>
          <p:cNvPicPr/>
          <p:nvPr/>
        </p:nvPicPr>
        <p:blipFill>
          <a:blip r:embed="rId5"/>
          <a:stretch/>
        </p:blipFill>
        <p:spPr>
          <a:xfrm>
            <a:off x="7696080" y="152280"/>
            <a:ext cx="1238400" cy="12099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CFE4-69BC-4B74-A977-73A95504F45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2" name="Picture 2" descr="http://tbn2.google.com/images?q=tbn:zj-WJyn8raLdRM:http://arc.rcboe.org/www/arc_rcboe/site/hosting/IB/IB2007WorldSchool2Colourlarge.jpg"/>
          <p:cNvPicPr/>
          <p:nvPr/>
        </p:nvPicPr>
        <p:blipFill>
          <a:blip r:embed="rId5"/>
          <a:stretch/>
        </p:blipFill>
        <p:spPr>
          <a:xfrm>
            <a:off x="7620120" y="152280"/>
            <a:ext cx="1238040" cy="12099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231B-42CD-44EF-9D6E-DFF38E93399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9A02-4E17-43E8-AC75-EC4BCAA7DFF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Title 1" descr=""/>
          <p:cNvPicPr/>
          <p:nvPr/>
        </p:nvPicPr>
        <p:blipFill>
          <a:blip r:embed="rId1"/>
          <a:stretch/>
        </p:blipFill>
        <p:spPr>
          <a:xfrm>
            <a:off x="-158760" y="378000"/>
            <a:ext cx="8309160" cy="19015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23800" y="224748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Design Cycle: A Problem Solving Proce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309060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: Creating the solu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wil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onstruc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 logical plan, describing time &amp; re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emonstrat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excellent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echnical ski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e pl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justif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ully any chang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made to the chosen design and pla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uring the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pres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olution as a whole either in electronic form or through photographs of the solution showing details from different ang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reating the solution - Detai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en changes have been made to the solution, students must describe and justify each chang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echnical skills: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level of technical skill can be determined using the following two factors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complexity of skill demonstr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level of guidance needed from the teacher to complete the task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:Evaluat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wil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etailed and relevant testing methods that will generate data and make it possible to measure the success of the solu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evaluat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e success of the solution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gainst the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design specification*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how the solution could be improv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e impact of the solution on the targeted audience/cl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valuating - Detai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2189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roduct testing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ge in the design process where versions of products (prototypes) are tested against the design need (specification), applied to the context and presented to the end-user or target audienc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sts include collection and analysis                               of data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ypes of testing inclu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795240" indent="-2142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user trial and observation: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(usability and intuitiveness),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795240" indent="-2142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field/ performance test: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(functionality and performance),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795240" indent="-2142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expert appraisal: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(beta testing, consumer testing)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6248520" y="2971800"/>
            <a:ext cx="24573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valuating details continued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uthentic tests are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levant to the proj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leted by appropriate tester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d to gain high-quality feedbac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0527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: </a:t>
            </a: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eloping Idea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wil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evelo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esign specificatio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                            clearly states the success crite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evelo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 range of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easibl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esign ideas, which can be interpreted by oth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pres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inal chosen design and justif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evelo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ccurate and detailed planning drawings/diagrams and outline the requirements for the creation of the chosen solu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Design Specs = success criteria</a:t>
            </a:r>
            <a:br>
              <a:rPr sz="2000"/>
            </a:b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To be successful, the solution must... (have, be, include, do, etc.)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228600" y="152388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ccord SF"/>
              </a:rPr>
              <a:t>This is detailed description of the conditions, requirements and restrictions with which a design must com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ccord SF"/>
              </a:rPr>
              <a:t>This is a precise and accurate list of facts such as conditions, dimensions,  materials, process and methods that are important for the designer and for the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ccord SF"/>
              </a:rPr>
              <a:t>All appropriate solutions will need to comply with the design spec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veloping Ideas - Detai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0" y="1066680"/>
            <a:ext cx="8915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you will start discussing the various ideas to promote tourism. Example: Video, Magazine, Webpages, Blogs, App, Brochure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VIDE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- 4 minutes long. Frames with various tourist destinations within the c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70c0"/>
                </a:solidFill>
                <a:uFillTx/>
                <a:latin typeface="Arial"/>
              </a:rPr>
              <a:t>BROCH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Two Pages of Brochure attractive and professionally created so that target audience will make an attempt to visit th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"/>
          <p:cNvSpPr/>
          <p:nvPr/>
        </p:nvSpPr>
        <p:spPr>
          <a:xfrm>
            <a:off x="762120" y="914400"/>
            <a:ext cx="3276360" cy="2743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4419720" y="914400"/>
            <a:ext cx="3276360" cy="2743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762120" y="914400"/>
            <a:ext cx="3276360" cy="762120"/>
          </a:xfrm>
          <a:prstGeom prst="rect">
            <a:avLst/>
          </a:pr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Constantia"/>
              </a:rPr>
              <a:t>Video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838080" y="1828800"/>
            <a:ext cx="1447920" cy="1066680"/>
          </a:xfrm>
          <a:prstGeom prst="rect">
            <a:avLst/>
          </a:pr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onstantia"/>
              </a:rPr>
              <a:t>Information  on places to vi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7"/>
          <p:cNvSpPr/>
          <p:nvPr/>
        </p:nvSpPr>
        <p:spPr>
          <a:xfrm>
            <a:off x="2590920" y="1828800"/>
            <a:ext cx="1295280" cy="762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onstantia"/>
              </a:rPr>
              <a:t>Pic of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8"/>
          <p:cNvSpPr/>
          <p:nvPr/>
        </p:nvSpPr>
        <p:spPr>
          <a:xfrm>
            <a:off x="2590920" y="2666880"/>
            <a:ext cx="1295280" cy="990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onstantia"/>
              </a:rPr>
              <a:t>Pic of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 rot="16200000">
            <a:off x="3429000" y="1905120"/>
            <a:ext cx="2743200" cy="761760"/>
          </a:xfrm>
          <a:prstGeom prst="rect">
            <a:avLst/>
          </a:pr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Constantia"/>
              </a:rPr>
              <a:t>Video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5181480" y="2590920"/>
            <a:ext cx="2514600" cy="1066680"/>
          </a:xfrm>
          <a:prstGeom prst="rect">
            <a:avLst/>
          </a:pr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onstantia"/>
              </a:rPr>
              <a:t>Information  on places to vi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2"/>
          <p:cNvSpPr/>
          <p:nvPr/>
        </p:nvSpPr>
        <p:spPr>
          <a:xfrm>
            <a:off x="5257800" y="990720"/>
            <a:ext cx="838080" cy="7617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060"/>
                </a:solidFill>
                <a:latin typeface="Constantia"/>
              </a:rPr>
              <a:t>Pic of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6400800" y="990720"/>
            <a:ext cx="838080" cy="7617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060"/>
                </a:solidFill>
                <a:latin typeface="Constantia"/>
              </a:rPr>
              <a:t>Pic of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5334120" y="1828800"/>
            <a:ext cx="838080" cy="762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060"/>
                </a:solidFill>
                <a:latin typeface="Constantia"/>
              </a:rPr>
              <a:t>Pic of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5"/>
          <p:cNvSpPr/>
          <p:nvPr/>
        </p:nvSpPr>
        <p:spPr>
          <a:xfrm>
            <a:off x="6400800" y="1828800"/>
            <a:ext cx="838080" cy="762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060"/>
                </a:solidFill>
                <a:latin typeface="Constantia"/>
              </a:rPr>
              <a:t>Pic of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7"/>
          <p:cNvCxnSpPr/>
          <p:nvPr/>
        </p:nvCxnSpPr>
        <p:spPr>
          <a:xfrm flipV="1">
            <a:off x="609480" y="3504600"/>
            <a:ext cx="610560" cy="6102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21" name="TextBox 18"/>
          <p:cNvSpPr/>
          <p:nvPr/>
        </p:nvSpPr>
        <p:spPr>
          <a:xfrm>
            <a:off x="0" y="4419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ground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ight Brace 19"/>
          <p:cNvSpPr/>
          <p:nvPr/>
        </p:nvSpPr>
        <p:spPr>
          <a:xfrm rot="5400000">
            <a:off x="3999960" y="3466800"/>
            <a:ext cx="380880" cy="76212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762120"/>
              <a:gd name="textAreaBottom" fmla="*/ 7524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16200" y="10800"/>
                  <a:pt x="21600" y="10800"/>
                </a:cubicBezTo>
                <a:cubicBezTo>
                  <a:pt x="162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bd0d9"/>
            </a:solidFill>
            <a:miter/>
          </a:ln>
          <a:effectLst>
            <a:outerShdw dist="38160" dir="5400000" blurRad="0" rotWithShape="0">
              <a:srgbClr val="0045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0"/>
          <p:cNvSpPr/>
          <p:nvPr/>
        </p:nvSpPr>
        <p:spPr>
          <a:xfrm>
            <a:off x="3352680" y="41148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ition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1"/>
          <p:cNvSpPr/>
          <p:nvPr/>
        </p:nvSpPr>
        <p:spPr>
          <a:xfrm>
            <a:off x="228600" y="2286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80880" y="1295280"/>
            <a:ext cx="2514600" cy="5181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380880" y="1295280"/>
            <a:ext cx="2514600" cy="762120"/>
          </a:xfrm>
          <a:prstGeom prst="rect">
            <a:avLst/>
          </a:prstGeom>
          <a:solidFill>
            <a:srgbClr val="0bd0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45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nstantia"/>
              </a:rPr>
              <a:t>Visit U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ounded Rectangle 5"/>
          <p:cNvSpPr/>
          <p:nvPr/>
        </p:nvSpPr>
        <p:spPr>
          <a:xfrm>
            <a:off x="1981080" y="2286000"/>
            <a:ext cx="838440" cy="1219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219320"/>
              <a:gd name="textAreaBottom" fmla="*/ 1178640 h 1219320"/>
            </a:gdLst>
            <a:ahLst/>
            <a:rect l="textAreaLeft" t="textAreaTop" r="textAreaRight" b="textAreaBottom"/>
            <a:pathLst>
              <a:path w="21600" h="31408">
                <a:moveTo>
                  <a:pt x="3600" y="0"/>
                </a:moveTo>
                <a:arcTo wR="3600" hR="3600" stAng="16200000" swAng="-5400000"/>
                <a:lnTo>
                  <a:pt x="0" y="27808"/>
                </a:lnTo>
                <a:arcTo wR="3600" hR="3600" stAng="10800000" swAng="-5400000"/>
                <a:lnTo>
                  <a:pt x="18000" y="314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Constantia"/>
              </a:rPr>
              <a:t>Pic of  pl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6"/>
          <p:cNvSpPr/>
          <p:nvPr/>
        </p:nvSpPr>
        <p:spPr>
          <a:xfrm>
            <a:off x="380880" y="5181480"/>
            <a:ext cx="685800" cy="12193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219320"/>
              <a:gd name="textAreaBottom" fmla="*/ 1185840 h 1219320"/>
            </a:gdLst>
            <a:ahLst/>
            <a:rect l="textAreaLeft" t="textAreaTop" r="textAreaRight" b="textAreaBottom"/>
            <a:pathLst>
              <a:path w="21600" h="38395">
                <a:moveTo>
                  <a:pt x="3600" y="0"/>
                </a:moveTo>
                <a:arcTo wR="3600" hR="3600" stAng="16200000" swAng="-5400000"/>
                <a:lnTo>
                  <a:pt x="0" y="34795"/>
                </a:lnTo>
                <a:arcTo wR="3600" hR="3600" stAng="10800000" swAng="-5400000"/>
                <a:lnTo>
                  <a:pt x="18000" y="38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Constantia"/>
              </a:rPr>
              <a:t>Pic of 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ounded Rectangle 7"/>
          <p:cNvSpPr/>
          <p:nvPr/>
        </p:nvSpPr>
        <p:spPr>
          <a:xfrm>
            <a:off x="1143000" y="5181480"/>
            <a:ext cx="685800" cy="12193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219320"/>
              <a:gd name="textAreaBottom" fmla="*/ 1185840 h 1219320"/>
            </a:gdLst>
            <a:ahLst/>
            <a:rect l="textAreaLeft" t="textAreaTop" r="textAreaRight" b="textAreaBottom"/>
            <a:pathLst>
              <a:path w="21600" h="38395">
                <a:moveTo>
                  <a:pt x="3600" y="0"/>
                </a:moveTo>
                <a:arcTo wR="3600" hR="3600" stAng="16200000" swAng="-5400000"/>
                <a:lnTo>
                  <a:pt x="0" y="34795"/>
                </a:lnTo>
                <a:arcTo wR="3600" hR="3600" stAng="10800000" swAng="-5400000"/>
                <a:lnTo>
                  <a:pt x="18000" y="38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Constantia"/>
              </a:rPr>
              <a:t>Pic of 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ounded Rectangle 8"/>
          <p:cNvSpPr/>
          <p:nvPr/>
        </p:nvSpPr>
        <p:spPr>
          <a:xfrm>
            <a:off x="1905120" y="5181480"/>
            <a:ext cx="685800" cy="12193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219320"/>
              <a:gd name="textAreaBottom" fmla="*/ 1185840 h 1219320"/>
            </a:gdLst>
            <a:ahLst/>
            <a:rect l="textAreaLeft" t="textAreaTop" r="textAreaRight" b="textAreaBottom"/>
            <a:pathLst>
              <a:path w="21600" h="38395">
                <a:moveTo>
                  <a:pt x="3600" y="0"/>
                </a:moveTo>
                <a:arcTo wR="3600" hR="3600" stAng="16200000" swAng="-5400000"/>
                <a:lnTo>
                  <a:pt x="0" y="34795"/>
                </a:lnTo>
                <a:arcTo wR="3600" hR="3600" stAng="10800000" swAng="-5400000"/>
                <a:lnTo>
                  <a:pt x="18000" y="38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Constantia"/>
              </a:rPr>
              <a:t>Pic of 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457200" y="2362320"/>
            <a:ext cx="1219320" cy="533160"/>
          </a:xfrm>
          <a:prstGeom prst="rect">
            <a:avLst/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nstantia"/>
              </a:rPr>
              <a:t>Hea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10"/>
          <p:cNvSpPr/>
          <p:nvPr/>
        </p:nvSpPr>
        <p:spPr>
          <a:xfrm>
            <a:off x="380880" y="3200400"/>
            <a:ext cx="1600200" cy="1600200"/>
          </a:xfrm>
          <a:prstGeom prst="roundRect">
            <a:avLst>
              <a:gd name="adj" fmla="val 16667"/>
            </a:avLst>
          </a:prstGeom>
          <a:solidFill>
            <a:srgbClr val="5ff3c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onstantia"/>
              </a:rPr>
              <a:t>Information on places to vi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1"/>
          <p:cNvSpPr/>
          <p:nvPr/>
        </p:nvSpPr>
        <p:spPr>
          <a:xfrm>
            <a:off x="3657600" y="1295280"/>
            <a:ext cx="2514600" cy="5181840"/>
          </a:xfrm>
          <a:prstGeom prst="rect">
            <a:avLst/>
          </a:prstGeom>
          <a:solidFill>
            <a:srgbClr val="089ca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2"/>
          <p:cNvSpPr/>
          <p:nvPr/>
        </p:nvSpPr>
        <p:spPr>
          <a:xfrm>
            <a:off x="3657600" y="1295280"/>
            <a:ext cx="2514600" cy="762120"/>
          </a:xfrm>
          <a:prstGeom prst="rect">
            <a:avLst/>
          </a:prstGeom>
          <a:solidFill>
            <a:srgbClr val="072428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45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nstantia"/>
              </a:rPr>
              <a:t>Visit U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ounded Rectangle 15"/>
          <p:cNvSpPr/>
          <p:nvPr/>
        </p:nvSpPr>
        <p:spPr>
          <a:xfrm>
            <a:off x="3657600" y="5257800"/>
            <a:ext cx="990720" cy="12193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219320"/>
              <a:gd name="textAreaBottom" fmla="*/ 1171080 h 1219320"/>
            </a:gdLst>
            <a:ahLst/>
            <a:rect l="textAreaLeft" t="textAreaTop" r="textAreaRight" b="textAreaBottom"/>
            <a:pathLst>
              <a:path w="21600" h="26582">
                <a:moveTo>
                  <a:pt x="3600" y="0"/>
                </a:moveTo>
                <a:arcTo wR="3600" hR="3600" stAng="16200000" swAng="-5400000"/>
                <a:lnTo>
                  <a:pt x="0" y="22982"/>
                </a:lnTo>
                <a:arcTo wR="3600" hR="3600" stAng="10800000" swAng="-5400000"/>
                <a:lnTo>
                  <a:pt x="18000" y="265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Constantia"/>
              </a:rPr>
              <a:t>Pic of 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ounded Rectangle 16"/>
          <p:cNvSpPr/>
          <p:nvPr/>
        </p:nvSpPr>
        <p:spPr>
          <a:xfrm>
            <a:off x="5029200" y="5257800"/>
            <a:ext cx="1143000" cy="121932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219320"/>
              <a:gd name="textAreaBottom" fmla="*/ 1163520 h 1219320"/>
            </a:gdLst>
            <a:ahLst/>
            <a:rect l="textAreaLeft" t="textAreaTop" r="textAreaRight" b="textAreaBottom"/>
            <a:pathLst>
              <a:path w="21600" h="23042">
                <a:moveTo>
                  <a:pt x="3600" y="0"/>
                </a:moveTo>
                <a:arcTo wR="3600" hR="3600" stAng="16200000" swAng="-5400000"/>
                <a:lnTo>
                  <a:pt x="0" y="19442"/>
                </a:lnTo>
                <a:arcTo wR="3600" hR="3600" stAng="10800000" swAng="-5400000"/>
                <a:lnTo>
                  <a:pt x="18000" y="230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Constantia"/>
              </a:rPr>
              <a:t>Pic of 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4952880" y="2133720"/>
            <a:ext cx="1219320" cy="533160"/>
          </a:xfrm>
          <a:prstGeom prst="rect">
            <a:avLst/>
          </a:prstGeom>
          <a:solidFill>
            <a:srgbClr val="02303e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nstantia"/>
              </a:rPr>
              <a:t>Hea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ounded Rectangle 18"/>
          <p:cNvSpPr/>
          <p:nvPr/>
        </p:nvSpPr>
        <p:spPr>
          <a:xfrm>
            <a:off x="3657600" y="3200400"/>
            <a:ext cx="2514600" cy="1600200"/>
          </a:xfrm>
          <a:prstGeom prst="roundRect">
            <a:avLst>
              <a:gd name="adj" fmla="val 16667"/>
            </a:avLst>
          </a:prstGeom>
          <a:solidFill>
            <a:srgbClr val="7e963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onstantia"/>
              </a:rPr>
              <a:t>Information on places to vi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ounded Rectangle 19"/>
          <p:cNvSpPr/>
          <p:nvPr/>
        </p:nvSpPr>
        <p:spPr>
          <a:xfrm>
            <a:off x="3657600" y="2057400"/>
            <a:ext cx="1066680" cy="1066680"/>
          </a:xfrm>
          <a:prstGeom prst="roundRect">
            <a:avLst>
              <a:gd name="adj" fmla="val 16667"/>
            </a:avLst>
          </a:prstGeom>
          <a:solidFill>
            <a:srgbClr val="0b539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Constantia"/>
              </a:rPr>
              <a:t>Pic of  pl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0"/>
          <p:cNvSpPr/>
          <p:nvPr/>
        </p:nvSpPr>
        <p:spPr>
          <a:xfrm>
            <a:off x="685800" y="304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ochure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1"/>
          <p:cNvSpPr/>
          <p:nvPr/>
        </p:nvSpPr>
        <p:spPr>
          <a:xfrm>
            <a:off x="6477120" y="1295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notate them clear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3"/>
          <p:cNvSpPr/>
          <p:nvPr/>
        </p:nvSpPr>
        <p:spPr>
          <a:xfrm>
            <a:off x="152280" y="152280"/>
            <a:ext cx="899172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clude the follow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imensions (size – width and he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03495c"/>
                </a:solidFill>
                <a:latin typeface="Arial"/>
              </a:rPr>
              <a:t>Time (where appropriate e.g. the movie will be no      longer than 4 m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546422"/>
                </a:solidFill>
                <a:latin typeface="Arial"/>
              </a:rPr>
              <a:t>Colors – various colors that you may think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Fonts – Fonts that go well with the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aterials – Software/Hardware/Hardboard/Flash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3"/>
          <p:cNvSpPr/>
          <p:nvPr/>
        </p:nvSpPr>
        <p:spPr>
          <a:xfrm>
            <a:off x="152280" y="152280"/>
            <a:ext cx="8382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is is an example of a good Design Specification for a Clock Projec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use the Quartz analogue clock movement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vement is 55mm x 55mm x 15mm, so it must be    larger that 55mm x55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smaller that 300mm x 300mm due to the size of the h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be thicker that 5mm due to the length of the movement sha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have a theme that reflects the results from my surv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original in its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made from MDF, timber or acrylic as are the most sui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veloping Ideas - Detai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990720"/>
            <a:ext cx="883908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002060"/>
                </a:solidFill>
                <a:uFillTx/>
                <a:latin typeface="Constantia"/>
              </a:rPr>
              <a:t>Important Point to Note: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In MYP design, </a:t>
            </a:r>
            <a:r>
              <a:rPr b="0" lang="en-US" sz="3700" spc="-1" strike="noStrike" u="sng">
                <a:solidFill>
                  <a:srgbClr val="000000"/>
                </a:solidFill>
                <a:uFillTx/>
                <a:latin typeface="Constantia"/>
              </a:rPr>
              <a:t>a </a:t>
            </a:r>
            <a:r>
              <a:rPr b="1" lang="en-US" sz="3700" spc="-1" strike="noStrike" u="sng">
                <a:solidFill>
                  <a:srgbClr val="000000"/>
                </a:solidFill>
                <a:uFillTx/>
                <a:latin typeface="Constantia"/>
              </a:rPr>
              <a:t>feasible</a:t>
            </a:r>
            <a:r>
              <a:rPr b="0" lang="en-US" sz="3700" spc="-1" strike="noStrike" u="sng">
                <a:solidFill>
                  <a:srgbClr val="000000"/>
                </a:solidFill>
                <a:uFillTx/>
                <a:latin typeface="Constantia"/>
              </a:rPr>
              <a:t> idea 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is one that the you can create within the allocated time with the tools and facilities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7030a0"/>
                </a:solidFill>
                <a:latin typeface="Constantia"/>
              </a:rPr>
              <a:t>Having looked at various options, choose an Idea and start developing designs keeping in mind the design specification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7:56:43Z</dcterms:created>
  <dc:creator>Todd Matia</dc:creator>
  <dc:description/>
  <dc:language>en-US</dc:language>
  <cp:lastModifiedBy>mnicholas</cp:lastModifiedBy>
  <dcterms:modified xsi:type="dcterms:W3CDTF">2016-01-13T09:43:24Z</dcterms:modified>
  <cp:revision>53</cp:revision>
  <dc:subject/>
  <dc:title>IB Design Technology</dc:title>
</cp:coreProperties>
</file>